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34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539288" cy="6659563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5794200" y="0"/>
            <a:ext cx="44388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213000" y="533160"/>
            <a:ext cx="381168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1471DB-3527-46FB-8C6D-C4BED8C2D5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438D3C-7E9C-4770-8A0E-6AE1EDE589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EFDD996-18B1-46A0-814A-2115E26744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412AC1-63C6-454D-AA65-FF0FEFED07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E0D9471-5553-4728-9559-B27278E084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67E257-7742-4F61-9F76-A00F0FA537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96425CB-AF7D-42A6-A79E-78F19E910C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2,7 billion people are deprived of clean and energy efficient cooking technologies. Around 1,3 billion have no access to electri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energy is a prerequisite of human development (individual survival, education and health) and a critical input into all economic sectors (household production, farming or industr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alth and development status is closely correlated to the level of energy ac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D3F26C-6727-4513-B496-03ECDE5D84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FAD212A-C784-40A6-9647-C756DB14C7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7545C3F-66DF-44A1-9924-1FF17DED97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213000" y="533520"/>
            <a:ext cx="3811680" cy="26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022400" y="3373560"/>
            <a:ext cx="819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liennummernplatzhalter 3"/>
          <p:cNvSpPr/>
          <p:nvPr/>
        </p:nvSpPr>
        <p:spPr>
          <a:xfrm>
            <a:off x="5794200" y="6742080"/>
            <a:ext cx="443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74602F3-9F85-4FA3-B516-679A5B3A15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36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0520" y="162036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85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36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0520" y="3970440"/>
            <a:ext cx="2838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560" y="1079280"/>
            <a:ext cx="88167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6560" y="397044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6560" y="1620360"/>
            <a:ext cx="43023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560" y="3970440"/>
            <a:ext cx="881676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140360" y="6405480"/>
            <a:ext cx="50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Folie: </a:t>
            </a:r>
            <a:fld id="{9477608F-43FF-479B-BD32-444852FF200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0" y="89856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0"/>
          <p:cNvSpPr/>
          <p:nvPr/>
        </p:nvSpPr>
        <p:spPr>
          <a:xfrm>
            <a:off x="0" y="630252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358920" y="6405480"/>
            <a:ext cx="36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 O S C H   U N D   S I E M E N S   H A U S G E R Ä T E   G R U P P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6327720"/>
            <a:ext cx="9540720" cy="34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540720" cy="94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6327720"/>
            <a:ext cx="9540720" cy="34776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energypedia_claim_hochkant_rgb.jpg"/>
          <p:cNvPicPr/>
          <p:nvPr/>
        </p:nvPicPr>
        <p:blipFill>
          <a:blip r:embed="rId3"/>
          <a:stretch/>
        </p:blipFill>
        <p:spPr>
          <a:xfrm>
            <a:off x="8550360" y="81000"/>
            <a:ext cx="855720" cy="909720"/>
          </a:xfrm>
          <a:prstGeom prst="rect">
            <a:avLst/>
          </a:prstGeom>
          <a:ln w="0">
            <a:noFill/>
          </a:ln>
        </p:spPr>
      </p:pic>
      <p:sp>
        <p:nvSpPr>
          <p:cNvPr id="84" name="Gerade Verbindung 9"/>
          <p:cNvSpPr/>
          <p:nvPr/>
        </p:nvSpPr>
        <p:spPr>
          <a:xfrm>
            <a:off x="0" y="1035000"/>
            <a:ext cx="954072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1079280"/>
            <a:ext cx="88167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8560" y="1620360"/>
            <a:ext cx="88167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5C0-5416-4D80-9E06-9E8EEB8974F9}" type="slidenum">
              <a:rPr b="0" lang="de-DE" sz="8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Grafik 1" descr=""/>
          <p:cNvPicPr/>
          <p:nvPr/>
        </p:nvPicPr>
        <p:blipFill>
          <a:blip r:embed="rId1"/>
          <a:srcRect l="4121" t="11752" r="0" b="15594"/>
          <a:stretch/>
        </p:blipFill>
        <p:spPr>
          <a:xfrm>
            <a:off x="404640" y="2251080"/>
            <a:ext cx="7066080" cy="40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947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5920" y="1008000"/>
            <a:ext cx="66340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3763"/>
                </a:solidFill>
                <a:latin typeface="Calibri"/>
              </a:rPr>
              <a:t>e</a:t>
            </a:r>
            <a:r>
              <a:rPr b="0" lang="de-DE" sz="4400" spc="-1" strike="noStrike">
                <a:solidFill>
                  <a:srgbClr val="083763"/>
                </a:solidFill>
                <a:latin typeface="Calibri"/>
              </a:rPr>
              <a:t>nergypedia</a:t>
            </a:r>
            <a:br>
              <a:rPr sz="4400"/>
            </a:b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y energypedia UG (haftungsbeschänk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afik 5" descr="energypedia_claim_hochkant_rgb.jpg"/>
          <p:cNvPicPr/>
          <p:nvPr/>
        </p:nvPicPr>
        <p:blipFill>
          <a:blip r:embed="rId3"/>
          <a:stretch/>
        </p:blipFill>
        <p:spPr>
          <a:xfrm>
            <a:off x="7913520" y="1157400"/>
            <a:ext cx="14288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39280" y="1351080"/>
            <a:ext cx="882036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5D8B-EDD8-439B-AEA9-F4488D255990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uppieren 19"/>
          <p:cNvGrpSpPr/>
          <p:nvPr/>
        </p:nvGrpSpPr>
        <p:grpSpPr>
          <a:xfrm>
            <a:off x="1930320" y="4551480"/>
            <a:ext cx="3241800" cy="1620720"/>
            <a:chOff x="1930320" y="4551480"/>
            <a:chExt cx="3241800" cy="1620720"/>
          </a:xfrm>
        </p:grpSpPr>
        <p:sp>
          <p:nvSpPr>
            <p:cNvPr id="241" name="Gerade Verbindung 20"/>
            <p:cNvSpPr/>
            <p:nvPr/>
          </p:nvSpPr>
          <p:spPr>
            <a:xfrm flipH="1" flipV="1">
              <a:off x="2947680" y="4842000"/>
              <a:ext cx="1220760" cy="777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Gerade Verbindung 21"/>
            <p:cNvSpPr/>
            <p:nvPr/>
          </p:nvSpPr>
          <p:spPr>
            <a:xfrm flipH="1" flipV="1">
              <a:off x="2666880" y="5054400"/>
              <a:ext cx="885600" cy="623880"/>
            </a:xfrm>
            <a:prstGeom prst="line">
              <a:avLst/>
            </a:prstGeom>
            <a:ln w="316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Gerade Verbindung 22"/>
            <p:cNvSpPr/>
            <p:nvPr/>
          </p:nvSpPr>
          <p:spPr>
            <a:xfrm flipH="1">
              <a:off x="3636720" y="5720040"/>
              <a:ext cx="1065240" cy="1425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Gerade Verbindung 23"/>
            <p:cNvSpPr/>
            <p:nvPr/>
          </p:nvSpPr>
          <p:spPr>
            <a:xfrm flipH="1">
              <a:off x="3268440" y="5130720"/>
              <a:ext cx="1060560" cy="54756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3" descr=""/>
            <p:cNvPicPr/>
            <p:nvPr/>
          </p:nvPicPr>
          <p:blipFill>
            <a:blip r:embed="rId1"/>
            <a:stretch/>
          </p:blipFill>
          <p:spPr>
            <a:xfrm>
              <a:off x="3947760" y="462888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3171240" y="559260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6" descr=""/>
            <p:cNvPicPr/>
            <p:nvPr/>
          </p:nvPicPr>
          <p:blipFill>
            <a:blip r:embed="rId3"/>
            <a:stretch/>
          </p:blipFill>
          <p:spPr>
            <a:xfrm>
              <a:off x="4632120" y="544968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Gerade Verbindung 27"/>
            <p:cNvSpPr/>
            <p:nvPr/>
          </p:nvSpPr>
          <p:spPr>
            <a:xfrm flipV="1">
              <a:off x="2151000" y="5054400"/>
              <a:ext cx="630000" cy="377640"/>
            </a:xfrm>
            <a:prstGeom prst="line">
              <a:avLst/>
            </a:prstGeom>
            <a:ln w="316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4" descr=""/>
            <p:cNvPicPr/>
            <p:nvPr/>
          </p:nvPicPr>
          <p:blipFill>
            <a:blip r:embed="rId4"/>
            <a:stretch/>
          </p:blipFill>
          <p:spPr>
            <a:xfrm>
              <a:off x="1930320" y="5388480"/>
              <a:ext cx="579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"/>
            <p:cNvPicPr/>
            <p:nvPr/>
          </p:nvPicPr>
          <p:blipFill>
            <a:blip r:embed="rId5"/>
            <a:stretch/>
          </p:blipFill>
          <p:spPr>
            <a:xfrm>
              <a:off x="2446920" y="4551480"/>
              <a:ext cx="579960" cy="57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7" descr=""/>
          <p:cNvPicPr/>
          <p:nvPr/>
        </p:nvPicPr>
        <p:blipFill>
          <a:blip r:embed="rId6"/>
          <a:stretch/>
        </p:blipFill>
        <p:spPr>
          <a:xfrm>
            <a:off x="4164120" y="1260360"/>
            <a:ext cx="368928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5" descr="C:\Users\Benjamin\Downloads\energypedia\MES\Discussion.png"/>
          <p:cNvPicPr/>
          <p:nvPr/>
        </p:nvPicPr>
        <p:blipFill>
          <a:blip r:embed="rId7"/>
          <a:stretch/>
        </p:blipFill>
        <p:spPr>
          <a:xfrm>
            <a:off x="5761080" y="3600360"/>
            <a:ext cx="3645000" cy="25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7" descr=""/>
          <p:cNvPicPr/>
          <p:nvPr/>
        </p:nvPicPr>
        <p:blipFill>
          <a:blip r:embed="rId8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4780080" y="1441440"/>
            <a:ext cx="4514760" cy="4667400"/>
          </a:xfrm>
          <a:prstGeom prst="rect">
            <a:avLst/>
          </a:prstGeom>
          <a:ln w="0">
            <a:noFill/>
          </a:ln>
        </p:spPr>
      </p:pic>
      <p:sp>
        <p:nvSpPr>
          <p:cNvPr id="25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069-E8C4-47BA-B14F-E675559B18CF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uppieren 24"/>
          <p:cNvGrpSpPr/>
          <p:nvPr/>
        </p:nvGrpSpPr>
        <p:grpSpPr>
          <a:xfrm>
            <a:off x="4365720" y="1274760"/>
            <a:ext cx="5005440" cy="4889520"/>
            <a:chOff x="4365720" y="1274760"/>
            <a:chExt cx="5005440" cy="4889520"/>
          </a:xfrm>
        </p:grpSpPr>
        <p:pic>
          <p:nvPicPr>
            <p:cNvPr id="258" name="Picture 3" descr=""/>
            <p:cNvPicPr/>
            <p:nvPr/>
          </p:nvPicPr>
          <p:blipFill>
            <a:blip r:embed="rId2"/>
            <a:stretch/>
          </p:blipFill>
          <p:spPr>
            <a:xfrm>
              <a:off x="4723560" y="1364400"/>
              <a:ext cx="4647600" cy="47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Gerade Verbindung 15"/>
            <p:cNvSpPr/>
            <p:nvPr/>
          </p:nvSpPr>
          <p:spPr>
            <a:xfrm flipH="1">
              <a:off x="4780080" y="1949400"/>
              <a:ext cx="799920" cy="22352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Gerade Verbindung 18"/>
            <p:cNvSpPr/>
            <p:nvPr/>
          </p:nvSpPr>
          <p:spPr>
            <a:xfrm>
              <a:off x="5445000" y="1949400"/>
              <a:ext cx="1260360" cy="320040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Gerade Verbindung 21"/>
            <p:cNvSpPr/>
            <p:nvPr/>
          </p:nvSpPr>
          <p:spPr>
            <a:xfrm>
              <a:off x="5761080" y="1689120"/>
              <a:ext cx="2158920" cy="1634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5085360" y="127476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Gerade Verbindung 12"/>
            <p:cNvSpPr/>
            <p:nvPr/>
          </p:nvSpPr>
          <p:spPr>
            <a:xfrm flipH="1">
              <a:off x="6632640" y="2103480"/>
              <a:ext cx="1776240" cy="290520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3" descr=""/>
            <p:cNvPicPr/>
            <p:nvPr/>
          </p:nvPicPr>
          <p:blipFill>
            <a:blip r:embed="rId4"/>
            <a:stretch/>
          </p:blipFill>
          <p:spPr>
            <a:xfrm>
              <a:off x="7920360" y="143856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"/>
            <p:cNvPicPr/>
            <p:nvPr/>
          </p:nvPicPr>
          <p:blipFill>
            <a:blip r:embed="rId5"/>
            <a:stretch/>
          </p:blipFill>
          <p:spPr>
            <a:xfrm>
              <a:off x="4365720" y="4184280"/>
              <a:ext cx="8283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Gerade Verbindung 10"/>
            <p:cNvSpPr/>
            <p:nvPr/>
          </p:nvSpPr>
          <p:spPr>
            <a:xfrm flipH="1">
              <a:off x="6884640" y="4694400"/>
              <a:ext cx="1523880" cy="728640"/>
            </a:xfrm>
            <a:prstGeom prst="line">
              <a:avLst/>
            </a:prstGeom>
            <a:ln w="4428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6" descr=""/>
            <p:cNvPicPr/>
            <p:nvPr/>
          </p:nvPicPr>
          <p:blipFill>
            <a:blip r:embed="rId6"/>
            <a:stretch/>
          </p:blipFill>
          <p:spPr>
            <a:xfrm>
              <a:off x="8314920" y="4379040"/>
              <a:ext cx="7711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" descr=""/>
            <p:cNvPicPr/>
            <p:nvPr/>
          </p:nvPicPr>
          <p:blipFill>
            <a:blip r:embed="rId7"/>
            <a:stretch/>
          </p:blipFill>
          <p:spPr>
            <a:xfrm>
              <a:off x="6219000" y="5009040"/>
              <a:ext cx="8283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 txBox="1"/>
          <p:nvPr/>
        </p:nvSpPr>
        <p:spPr>
          <a:xfrm>
            <a:off x="539280" y="1351080"/>
            <a:ext cx="36910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connec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haltsplatzhalter 1"/>
          <p:cNvSpPr/>
          <p:nvPr/>
        </p:nvSpPr>
        <p:spPr>
          <a:xfrm>
            <a:off x="617400" y="5361120"/>
            <a:ext cx="4562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with people </a:t>
            </a:r>
            <a:br>
              <a:rPr sz="2800"/>
            </a:b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(knowledge comm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8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reating content is absolutely ea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FB58-F84A-4DCC-969C-4B7D3266911E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4189320" y="1468440"/>
            <a:ext cx="116388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2"/>
          <a:stretch/>
        </p:blipFill>
        <p:spPr>
          <a:xfrm>
            <a:off x="4005360" y="5657760"/>
            <a:ext cx="1531800" cy="455760"/>
          </a:xfrm>
          <a:prstGeom prst="rect">
            <a:avLst/>
          </a:prstGeom>
          <a:ln w="0">
            <a:noFill/>
          </a:ln>
        </p:spPr>
      </p:pic>
      <p:sp>
        <p:nvSpPr>
          <p:cNvPr id="277" name="Nach rechts gekrümmter Pfeil 15"/>
          <p:cNvSpPr/>
          <p:nvPr/>
        </p:nvSpPr>
        <p:spPr>
          <a:xfrm flipH="1">
            <a:off x="5714280" y="1593720"/>
            <a:ext cx="1305000" cy="4538880"/>
          </a:xfrm>
          <a:custGeom>
            <a:avLst/>
            <a:gdLst>
              <a:gd name="textAreaLeft" fmla="*/ 174600 w 1305000"/>
              <a:gd name="textAreaRight" fmla="*/ 1130400 w 1305000"/>
              <a:gd name="textAreaTop" fmla="*/ 1012320 h 4538880"/>
              <a:gd name="textAreaBottom" fmla="*/ 3363480 h 45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6" stAng="-5400000" swAng="-5400000"/>
                <a:lnTo>
                  <a:pt x="0" y="11189"/>
                </a:lnTo>
                <a:arcTo wR="21600" hR="9636" stAng="10800000" swAng="-3596246"/>
                <a:lnTo>
                  <a:pt x="16200" y="21294"/>
                </a:lnTo>
                <a:lnTo>
                  <a:pt x="21600" y="20048"/>
                </a:lnTo>
                <a:lnTo>
                  <a:pt x="16200" y="18189"/>
                </a:lnTo>
                <a:lnTo>
                  <a:pt x="16200" y="18965"/>
                </a:lnTo>
                <a:arcTo wR="21600" hR="9636" stAng="7203754" swAng="3472313"/>
                <a:lnTo>
                  <a:pt x="70" y="10412"/>
                </a:lnTo>
                <a:arcTo wR="21600" hR="9636" stAng="-10676067" swAng="5276067"/>
                <a:close/>
              </a:path>
              <a:path fill="darkenLess" w="21600" h="21600">
                <a:moveTo>
                  <a:pt x="21600" y="0"/>
                </a:moveTo>
                <a:arcTo wR="21600" hR="9636" stAng="-5400000" swAng="-5400000"/>
                <a:lnTo>
                  <a:pt x="0" y="9636"/>
                </a:lnTo>
                <a:arcTo wR="21600" hR="9636" stAng="10800000" swAng="-123933"/>
                <a:lnTo>
                  <a:pt x="70" y="10412"/>
                </a:lnTo>
                <a:arcTo wR="21600" hR="9636" stAng="-10676067" swAng="5276067"/>
                <a:close/>
              </a:path>
            </a:pathLst>
          </a:custGeom>
          <a:solidFill>
            <a:srgbClr val="55a8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Nach rechts gekrümmter Pfeil 17"/>
          <p:cNvSpPr/>
          <p:nvPr/>
        </p:nvSpPr>
        <p:spPr>
          <a:xfrm flipV="1">
            <a:off x="2430360" y="1493280"/>
            <a:ext cx="1305000" cy="4537080"/>
          </a:xfrm>
          <a:custGeom>
            <a:avLst/>
            <a:gdLst>
              <a:gd name="textAreaLeft" fmla="*/ 174600 w 1305000"/>
              <a:gd name="textAreaRight" fmla="*/ 1130400 w 1305000"/>
              <a:gd name="textAreaTop" fmla="*/ 1011960 h 4537080"/>
              <a:gd name="textAreaBottom" fmla="*/ 33624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5" stAng="-5400000" swAng="-5400000"/>
                <a:lnTo>
                  <a:pt x="0" y="11189"/>
                </a:lnTo>
                <a:arcTo wR="21600" hR="9635" stAng="10800000" swAng="-3596169"/>
                <a:lnTo>
                  <a:pt x="16200" y="21294"/>
                </a:lnTo>
                <a:lnTo>
                  <a:pt x="21600" y="20047"/>
                </a:lnTo>
                <a:lnTo>
                  <a:pt x="16200" y="18188"/>
                </a:lnTo>
                <a:lnTo>
                  <a:pt x="16200" y="18964"/>
                </a:lnTo>
                <a:arcTo wR="21600" hR="9635" stAng="7203831" swAng="3472155"/>
                <a:lnTo>
                  <a:pt x="70" y="10412"/>
                </a:lnTo>
                <a:arcTo wR="21600" hR="9635" stAng="-10675986" swAng="5275986"/>
                <a:close/>
              </a:path>
              <a:path fill="darkenLess" w="21600" h="21600">
                <a:moveTo>
                  <a:pt x="21600" y="0"/>
                </a:moveTo>
                <a:arcTo wR="21600" hR="9635" stAng="-5400000" swAng="-5400000"/>
                <a:lnTo>
                  <a:pt x="0" y="9635"/>
                </a:lnTo>
                <a:arcTo wR="21600" hR="9635" stAng="10800000" swAng="-124014"/>
                <a:lnTo>
                  <a:pt x="70" y="10412"/>
                </a:lnTo>
                <a:arcTo wR="21600" hR="9635" stAng="-10675986" swAng="5275986"/>
                <a:close/>
              </a:path>
            </a:pathLst>
          </a:custGeom>
          <a:solidFill>
            <a:srgbClr val="55a8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3"/>
          <a:stretch/>
        </p:blipFill>
        <p:spPr>
          <a:xfrm>
            <a:off x="6031080" y="2392200"/>
            <a:ext cx="3355920" cy="2926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4"/>
          <a:stretch/>
        </p:blipFill>
        <p:spPr>
          <a:xfrm>
            <a:off x="378000" y="2392200"/>
            <a:ext cx="335412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9640" y="1351080"/>
            <a:ext cx="80107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like to shar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More than 80% of all web users who create content, stated “Joy of sharing with others on interesting topics” as a reason for particip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83763"/>
                </a:solidFill>
                <a:latin typeface="Arial"/>
              </a:rPr>
              <a:t>*(IBM/ZEM Study “Innovation in den Medien 2008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need the right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42720">
              <a:spcBef>
                <a:spcPts val="451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: People need to know who needs one’s knowledge for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42720">
              <a:spcBef>
                <a:spcPts val="451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Arial"/>
              </a:rPr>
              <a:t>Motivation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: positive feedback from other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-&gt; promotes our status as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People only share voluntarily, no one can ever be 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Why do people sh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885-7C76-4BEC-88C0-C87129B5C2F0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hallenges of web-based knowledge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5F9-10F3-44AF-89AB-6CBDEC93715D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640" y="1125000"/>
            <a:ext cx="86407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Creating the right context /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ather same interests than same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ncouraging feedback /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offering user-friendly tools (messaging, discussions, groups, eval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Increasing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eaching the critical mass via public relations </a:t>
            </a:r>
            <a:r>
              <a:rPr b="0" lang="de-DE" sz="1800" spc="-1" strike="noStrike">
                <a:solidFill>
                  <a:srgbClr val="083763"/>
                </a:solidFill>
                <a:latin typeface="Arial"/>
              </a:rPr>
              <a:t>(90-9-1 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nsuring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quality standards, wiki gardening, quality weeks, encouraging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Financing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fundraising &amp; affiliated consultancy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Measuring impacts /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8234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Opportunities of web-based knowledge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EF9-26AD-479E-9E6E-B9237DCF2F88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640" y="1125000"/>
            <a:ext cx="86407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from almost everywhere (increasing Internet distrib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Cross-border and interdiscipl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connecting people and experiences all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who writ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one document version; less emails; linking to information instead of producing it again and again; search functions; databases</a:t>
            </a:r>
            <a:r>
              <a:rPr b="0" lang="de-DE" sz="1800" spc="-1" strike="noStrike">
                <a:solidFill>
                  <a:srgbClr val="08376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asy-to-use and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information can easily be updated by every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9640" y="1304640"/>
            <a:ext cx="823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iki offers great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pportunities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but also faces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Success requires the right cultural, technological and organizational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iki is only a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knowledge shar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Goal is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free knowledge on renewable energies 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o accelerate their distribution and to reduce energy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e need a </a:t>
            </a: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cultura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from “Which information shall we make accessi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to “Which information has to be secure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B178-8445-4CC0-9D97-3CDA91B1E48F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94788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2"/>
          <p:cNvSpPr/>
          <p:nvPr/>
        </p:nvSpPr>
        <p:spPr>
          <a:xfrm>
            <a:off x="360360" y="4065480"/>
            <a:ext cx="55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gemeinnützige energypedia UG (haftungsbeschränkt)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Ludwig-Erhard-Str. 30-34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65760 Eschborn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T: +49 (0) 6196 / 20297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E: info@energypedia.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Registergericht: Wiesb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Eintragungs-Nr. HRB 26032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Sitz: Breitenbachstr. 49, 65187 Wiesbaden</a:t>
            </a:r>
            <a:br>
              <a:rPr sz="1200"/>
            </a:br>
            <a:r>
              <a:rPr b="0" lang="de-DE" sz="1200" spc="-1" strike="noStrike">
                <a:solidFill>
                  <a:srgbClr val="083763"/>
                </a:solidFill>
                <a:latin typeface="Calibri"/>
              </a:rPr>
              <a:t>Geschäftsführung: Kilian Rei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369720" y="3286080"/>
            <a:ext cx="2829240" cy="57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338040" y="1395360"/>
            <a:ext cx="4118040" cy="168588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4" descr=""/>
          <p:cNvPicPr/>
          <p:nvPr/>
        </p:nvPicPr>
        <p:blipFill>
          <a:blip r:embed="rId4"/>
          <a:srcRect l="4417" t="12848" r="34214" b="16000"/>
          <a:stretch/>
        </p:blipFill>
        <p:spPr>
          <a:xfrm>
            <a:off x="4456080" y="1849320"/>
            <a:ext cx="512928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7877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20A-5966-4E28-BF66-42A0424598C3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404640" y="1170000"/>
            <a:ext cx="261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Wiki* platform o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Offering free access to exper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On renewable energy and energy efficiency in developing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Everyone can read, write, edit, and disseminate articles on energy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011480" y="374760"/>
            <a:ext cx="2828880" cy="57132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7"/>
          <p:cNvSpPr/>
          <p:nvPr/>
        </p:nvSpPr>
        <p:spPr>
          <a:xfrm>
            <a:off x="360360" y="6054840"/>
            <a:ext cx="882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83763"/>
                </a:solidFill>
                <a:latin typeface="Calibri"/>
              </a:rPr>
              <a:t>* </a:t>
            </a:r>
            <a:r>
              <a:rPr b="0" lang="en-US" sz="1000" spc="-1" strike="noStrike">
                <a:solidFill>
                  <a:srgbClr val="083763"/>
                </a:solidFill>
                <a:latin typeface="Calibri"/>
              </a:rPr>
              <a:t>Wiki = Software for web sites allowing users not only to read but also to directly edit its content onli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3375000" y="1081080"/>
            <a:ext cx="605484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574280" y="1304640"/>
            <a:ext cx="69296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Internal projec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Developed within the Dutch-German energy partnership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Energising Development (EnDev)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, implemented by </a:t>
            </a:r>
            <a:r>
              <a:rPr b="1" lang="de-DE" sz="1400" spc="-1" strike="noStrike">
                <a:solidFill>
                  <a:srgbClr val="083763"/>
                </a:solidFill>
                <a:latin typeface="Calibri"/>
              </a:rPr>
              <a:t>Deutsche Gesellschaft für Internationale Zusammenarbeit (GIZ) GmbH 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as internal tool for knowledge and project manage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energypedia was b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EnDev wiki was re-launched as a separate workspace under the now known name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"energypedia"</a:t>
            </a: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. From there on energypedia can be read and edited by registered us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Public launch of energyp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Energypedia becomes public. Energypedia can be read by unregistered users and its contents can be found via internet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83763"/>
                </a:solidFill>
                <a:latin typeface="Calibri"/>
              </a:rPr>
              <a:t>energypedia become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Founded as not-for-profit organization, independent from GIZ. Starts working in own office in April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34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Calibri"/>
              </a:rPr>
              <a:t>Today, energypedia counts more than 790 articles and 2,290 users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211-4D77-4D7F-B719-C293E35FA4E3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feil nach unten 4"/>
          <p:cNvSpPr/>
          <p:nvPr/>
        </p:nvSpPr>
        <p:spPr>
          <a:xfrm>
            <a:off x="225360" y="1216080"/>
            <a:ext cx="1305000" cy="49942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585720" y="1305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3763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6"/>
          <p:cNvSpPr/>
          <p:nvPr/>
        </p:nvSpPr>
        <p:spPr>
          <a:xfrm>
            <a:off x="584280" y="3691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feld 7"/>
          <p:cNvSpPr/>
          <p:nvPr/>
        </p:nvSpPr>
        <p:spPr>
          <a:xfrm>
            <a:off x="585720" y="2610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3763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7877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"/>
          <p:cNvPicPr/>
          <p:nvPr/>
        </p:nvPicPr>
        <p:blipFill>
          <a:blip r:embed="rId1"/>
          <a:stretch/>
        </p:blipFill>
        <p:spPr>
          <a:xfrm>
            <a:off x="4049640" y="360360"/>
            <a:ext cx="1038240" cy="5810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13"/>
          <p:cNvSpPr/>
          <p:nvPr/>
        </p:nvSpPr>
        <p:spPr>
          <a:xfrm>
            <a:off x="539640" y="4726080"/>
            <a:ext cx="6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763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0D1-398E-4237-BABB-97B8AC91A4A7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haltsplatzhalter 1"/>
          <p:cNvSpPr/>
          <p:nvPr/>
        </p:nvSpPr>
        <p:spPr>
          <a:xfrm>
            <a:off x="378000" y="1125360"/>
            <a:ext cx="8216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Calibri"/>
              </a:rPr>
              <a:t>Key facts</a:t>
            </a:r>
            <a:r>
              <a:rPr b="1" lang="en-US" sz="1600" spc="-1" strike="noStrike">
                <a:solidFill>
                  <a:srgbClr val="083763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&gt; 790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&gt; 2,300 register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very 5</a:t>
            </a:r>
            <a:r>
              <a:rPr b="0" lang="en-US" sz="2000" spc="-1" strike="noStrike" baseline="30000">
                <a:solidFill>
                  <a:srgbClr val="08376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user is from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every 7</a:t>
            </a:r>
            <a:r>
              <a:rPr b="0" lang="en-US" sz="2000" spc="-1" strike="noStrike" baseline="30000">
                <a:solidFill>
                  <a:srgbClr val="08376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 user is from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8548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GIZ projects, energy experts, students,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up to 15,000 unique visitor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3763"/>
                </a:solidFill>
                <a:latin typeface="Arial"/>
              </a:rPr>
              <a:t>*March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4410000" y="379440"/>
            <a:ext cx="2828880" cy="571320"/>
          </a:xfrm>
          <a:prstGeom prst="rect">
            <a:avLst/>
          </a:prstGeom>
          <a:ln w="0">
            <a:noFill/>
          </a:ln>
        </p:spPr>
      </p:pic>
      <p:sp>
        <p:nvSpPr>
          <p:cNvPr id="153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49280" y="1395360"/>
            <a:ext cx="4456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eing a living platform of knowledge on renewable energies and energy efficiency with regard to development co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83763"/>
                </a:solidFill>
                <a:latin typeface="Calibri"/>
              </a:rPr>
              <a:t>By providing the opportunity to share knowledge, experience and lessons learnt with everyone, energypedia helps to improve energy acces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867-1176-47A1-8F59-C82E4998F837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Users\lisa\Pictures\Andi Lisa Ethiopia 2011\IMG_9517.JPG"/>
          <p:cNvPicPr/>
          <p:nvPr/>
        </p:nvPicPr>
        <p:blipFill>
          <a:blip r:embed="rId1"/>
          <a:stretch/>
        </p:blipFill>
        <p:spPr>
          <a:xfrm>
            <a:off x="4984920" y="1371600"/>
            <a:ext cx="4421160" cy="294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410000" y="379440"/>
            <a:ext cx="282888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8920" y="1351080"/>
            <a:ext cx="8913600" cy="17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ur 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world of free knowledge exchange and mutual learning on renewable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sustainable energy access for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68E2-F3E1-452F-B250-C11E00D05C78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el 2"/>
          <p:cNvSpPr/>
          <p:nvPr/>
        </p:nvSpPr>
        <p:spPr>
          <a:xfrm>
            <a:off x="447840" y="495360"/>
            <a:ext cx="7877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Arial"/>
              </a:rPr>
              <a:t>About energy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C:\Lisa\Gründung\Energypedia non profit\PR\Fotos\Kind mit energypedia block.jpg"/>
          <p:cNvPicPr/>
          <p:nvPr/>
        </p:nvPicPr>
        <p:blipFill>
          <a:blip r:embed="rId1"/>
          <a:stretch/>
        </p:blipFill>
        <p:spPr>
          <a:xfrm>
            <a:off x="431640" y="2925720"/>
            <a:ext cx="3940200" cy="2625840"/>
          </a:xfrm>
          <a:prstGeom prst="rect">
            <a:avLst/>
          </a:prstGeom>
          <a:ln w="0">
            <a:noFill/>
          </a:ln>
        </p:spPr>
      </p:pic>
      <p:sp>
        <p:nvSpPr>
          <p:cNvPr id="163" name="Inhaltsplatzhalter 1"/>
          <p:cNvSpPr/>
          <p:nvPr/>
        </p:nvSpPr>
        <p:spPr>
          <a:xfrm>
            <a:off x="4591080" y="2925720"/>
            <a:ext cx="47721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Our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become a living platform on renewable ener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offering relevant inform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user-friendly knowledge shar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80000" y="450720"/>
            <a:ext cx="8856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0720" y="1351080"/>
            <a:ext cx="449928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Users ≠ passive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Users create, edit and dissemina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Direct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Famous app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Social networking sites (e.g. Fac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File sharing sites (e.g. YouTube, Flic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Wikis (e.g. 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3870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alibri"/>
              </a:rPr>
              <a:t>Successful because all users can con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e2d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ECA-176F-4B21-AA6C-6ABB0C82E7B6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4" descr="web 2.0.gif"/>
          <p:cNvPicPr/>
          <p:nvPr/>
        </p:nvPicPr>
        <p:blipFill>
          <a:blip r:embed="rId1"/>
          <a:srcRect l="4741" t="6395" r="4656" b="9084"/>
          <a:stretch/>
        </p:blipFill>
        <p:spPr>
          <a:xfrm>
            <a:off x="4815000" y="1301760"/>
            <a:ext cx="4500360" cy="482760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5"/>
          <p:cNvSpPr/>
          <p:nvPr/>
        </p:nvSpPr>
        <p:spPr>
          <a:xfrm>
            <a:off x="7561080" y="603108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http://www.epic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95000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7480" y="495000"/>
            <a:ext cx="45925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280" y="1351080"/>
            <a:ext cx="832644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Knowledge is pow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less and less true in a world of widespread, inexpensiv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knowledge spreads too quickly to hold power fo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83763"/>
                </a:solidFill>
                <a:latin typeface="Arial"/>
              </a:rPr>
              <a:t>rapid innovation makes “old” knowledge quickly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3763"/>
                </a:solidFill>
                <a:latin typeface="Arial"/>
              </a:rPr>
              <a:t>Knowledge sharing is pow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83763"/>
                </a:solidFill>
                <a:latin typeface="Arial"/>
              </a:rPr>
              <a:t>exchange fosters development, improvement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Wiki is (only) a </a:t>
            </a:r>
            <a:r>
              <a:rPr b="1" lang="en-US" sz="2000" spc="-1" strike="noStrike">
                <a:solidFill>
                  <a:srgbClr val="92d050"/>
                </a:solidFill>
                <a:latin typeface="TitilliumText22L Th"/>
              </a:rPr>
              <a:t>knowledge shar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– </a:t>
            </a:r>
            <a:r>
              <a:rPr b="0" lang="en-US" sz="2000" spc="-1" strike="noStrike">
                <a:solidFill>
                  <a:srgbClr val="92d050"/>
                </a:solidFill>
                <a:latin typeface="TitilliumText22L Th"/>
              </a:rPr>
              <a:t>it won’t solve old knowledge managemen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450720"/>
            <a:ext cx="78771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Knowledge sharing is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273-F7A1-4245-B552-B7F079A8870C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ußzeilenplatzhalter 3"/>
          <p:cNvSpPr/>
          <p:nvPr/>
        </p:nvSpPr>
        <p:spPr>
          <a:xfrm>
            <a:off x="8729640" y="6445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02A-86CF-4393-AA41-DC966E70B4AB}" type="slidenum">
              <a:rPr b="0" lang="de-DE" sz="800" spc="-1" strike="noStrike">
                <a:solidFill>
                  <a:srgbClr val="08376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8096400" y="1638360"/>
            <a:ext cx="609480" cy="860400"/>
            <a:chOff x="8096400" y="1638360"/>
            <a:chExt cx="609480" cy="860400"/>
          </a:xfrm>
        </p:grpSpPr>
        <p:sp>
          <p:nvSpPr>
            <p:cNvPr id="176" name="Rectangle 6"/>
            <p:cNvSpPr/>
            <p:nvPr/>
          </p:nvSpPr>
          <p:spPr>
            <a:xfrm>
              <a:off x="8096400" y="163836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AutoShape 7"/>
            <p:cNvCxnSpPr/>
            <p:nvPr/>
          </p:nvCxnSpPr>
          <p:spPr>
            <a:xfrm>
              <a:off x="8169840" y="17398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78" name="AutoShape 8"/>
            <p:cNvCxnSpPr/>
            <p:nvPr/>
          </p:nvCxnSpPr>
          <p:spPr>
            <a:xfrm>
              <a:off x="8169840" y="18532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79" name="AutoShape 9"/>
            <p:cNvCxnSpPr/>
            <p:nvPr/>
          </p:nvCxnSpPr>
          <p:spPr>
            <a:xfrm>
              <a:off x="8169840" y="1967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0" name="AutoShape 10"/>
            <p:cNvCxnSpPr/>
            <p:nvPr/>
          </p:nvCxnSpPr>
          <p:spPr>
            <a:xfrm>
              <a:off x="8179920" y="20808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1" name="AutoShape 11"/>
            <p:cNvCxnSpPr/>
            <p:nvPr/>
          </p:nvCxnSpPr>
          <p:spPr>
            <a:xfrm>
              <a:off x="8182440" y="21945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2" name="AutoShape 12"/>
            <p:cNvCxnSpPr/>
            <p:nvPr/>
          </p:nvCxnSpPr>
          <p:spPr>
            <a:xfrm>
              <a:off x="8179920" y="23083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3" name="AutoShape 13"/>
            <p:cNvCxnSpPr/>
            <p:nvPr/>
          </p:nvCxnSpPr>
          <p:spPr>
            <a:xfrm>
              <a:off x="8157960" y="24220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4656240" y="2951280"/>
            <a:ext cx="4228920" cy="106524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5"/>
          <p:cNvGrpSpPr/>
          <p:nvPr/>
        </p:nvGrpSpPr>
        <p:grpSpPr>
          <a:xfrm>
            <a:off x="8448840" y="4622760"/>
            <a:ext cx="609480" cy="858960"/>
            <a:chOff x="8448840" y="4622760"/>
            <a:chExt cx="609480" cy="858960"/>
          </a:xfrm>
        </p:grpSpPr>
        <p:sp>
          <p:nvSpPr>
            <p:cNvPr id="186" name="Rectangle 6"/>
            <p:cNvSpPr/>
            <p:nvPr/>
          </p:nvSpPr>
          <p:spPr>
            <a:xfrm>
              <a:off x="8448840" y="4622760"/>
              <a:ext cx="609480" cy="8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AutoShape 7"/>
            <p:cNvCxnSpPr/>
            <p:nvPr/>
          </p:nvCxnSpPr>
          <p:spPr>
            <a:xfrm>
              <a:off x="8522280" y="47239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8" name="AutoShape 8"/>
            <p:cNvCxnSpPr/>
            <p:nvPr/>
          </p:nvCxnSpPr>
          <p:spPr>
            <a:xfrm>
              <a:off x="8522280" y="48373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89" name="AutoShape 9"/>
            <p:cNvCxnSpPr/>
            <p:nvPr/>
          </p:nvCxnSpPr>
          <p:spPr>
            <a:xfrm>
              <a:off x="8522280" y="49510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0" name="AutoShape 10"/>
            <p:cNvCxnSpPr/>
            <p:nvPr/>
          </p:nvCxnSpPr>
          <p:spPr>
            <a:xfrm>
              <a:off x="8532360" y="50644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1" name="AutoShape 11"/>
            <p:cNvCxnSpPr/>
            <p:nvPr/>
          </p:nvCxnSpPr>
          <p:spPr>
            <a:xfrm>
              <a:off x="8534880" y="51782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2" name="AutoShape 12"/>
            <p:cNvCxnSpPr/>
            <p:nvPr/>
          </p:nvCxnSpPr>
          <p:spPr>
            <a:xfrm>
              <a:off x="8532360" y="52916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3" name="AutoShape 13"/>
            <p:cNvCxnSpPr/>
            <p:nvPr/>
          </p:nvCxnSpPr>
          <p:spPr>
            <a:xfrm>
              <a:off x="8510400" y="5405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194" name="Group 5"/>
          <p:cNvGrpSpPr/>
          <p:nvPr/>
        </p:nvGrpSpPr>
        <p:grpSpPr>
          <a:xfrm>
            <a:off x="5276880" y="1461960"/>
            <a:ext cx="609480" cy="860400"/>
            <a:chOff x="5276880" y="1461960"/>
            <a:chExt cx="609480" cy="860400"/>
          </a:xfrm>
        </p:grpSpPr>
        <p:sp>
          <p:nvSpPr>
            <p:cNvPr id="195" name="Rectangle 6"/>
            <p:cNvSpPr/>
            <p:nvPr/>
          </p:nvSpPr>
          <p:spPr>
            <a:xfrm>
              <a:off x="5276880" y="146196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"/>
            <p:cNvCxnSpPr/>
            <p:nvPr/>
          </p:nvCxnSpPr>
          <p:spPr>
            <a:xfrm>
              <a:off x="5350320" y="15634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7" name="AutoShape 8"/>
            <p:cNvCxnSpPr/>
            <p:nvPr/>
          </p:nvCxnSpPr>
          <p:spPr>
            <a:xfrm>
              <a:off x="5350320" y="16768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8" name="AutoShape 9"/>
            <p:cNvCxnSpPr/>
            <p:nvPr/>
          </p:nvCxnSpPr>
          <p:spPr>
            <a:xfrm>
              <a:off x="5350320" y="17910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199" name="AutoShape 10"/>
            <p:cNvCxnSpPr/>
            <p:nvPr/>
          </p:nvCxnSpPr>
          <p:spPr>
            <a:xfrm>
              <a:off x="5360400" y="190440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0" name="AutoShape 11"/>
            <p:cNvCxnSpPr/>
            <p:nvPr/>
          </p:nvCxnSpPr>
          <p:spPr>
            <a:xfrm>
              <a:off x="5362920" y="20181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1" name="AutoShape 12"/>
            <p:cNvCxnSpPr/>
            <p:nvPr/>
          </p:nvCxnSpPr>
          <p:spPr>
            <a:xfrm>
              <a:off x="5360400" y="21319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2" name="AutoShape 13"/>
            <p:cNvCxnSpPr/>
            <p:nvPr/>
          </p:nvCxnSpPr>
          <p:spPr>
            <a:xfrm>
              <a:off x="5338440" y="22456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203" name="Group 5"/>
          <p:cNvGrpSpPr/>
          <p:nvPr/>
        </p:nvGrpSpPr>
        <p:grpSpPr>
          <a:xfrm>
            <a:off x="4552920" y="4432320"/>
            <a:ext cx="609480" cy="860400"/>
            <a:chOff x="4552920" y="4432320"/>
            <a:chExt cx="609480" cy="860400"/>
          </a:xfrm>
        </p:grpSpPr>
        <p:sp>
          <p:nvSpPr>
            <p:cNvPr id="204" name="Rectangle 6"/>
            <p:cNvSpPr/>
            <p:nvPr/>
          </p:nvSpPr>
          <p:spPr>
            <a:xfrm>
              <a:off x="4552920" y="4432320"/>
              <a:ext cx="6094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7"/>
            <p:cNvCxnSpPr/>
            <p:nvPr/>
          </p:nvCxnSpPr>
          <p:spPr>
            <a:xfrm>
              <a:off x="4626360" y="45338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6" name="AutoShape 8"/>
            <p:cNvCxnSpPr/>
            <p:nvPr/>
          </p:nvCxnSpPr>
          <p:spPr>
            <a:xfrm>
              <a:off x="4626360" y="46472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7" name="AutoShape 9"/>
            <p:cNvCxnSpPr/>
            <p:nvPr/>
          </p:nvCxnSpPr>
          <p:spPr>
            <a:xfrm>
              <a:off x="4626360" y="47613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8" name="AutoShape 10"/>
            <p:cNvCxnSpPr/>
            <p:nvPr/>
          </p:nvCxnSpPr>
          <p:spPr>
            <a:xfrm>
              <a:off x="4636440" y="487476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09" name="AutoShape 11"/>
            <p:cNvCxnSpPr/>
            <p:nvPr/>
          </p:nvCxnSpPr>
          <p:spPr>
            <a:xfrm>
              <a:off x="4638960" y="498852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0" name="AutoShape 12"/>
            <p:cNvCxnSpPr/>
            <p:nvPr/>
          </p:nvCxnSpPr>
          <p:spPr>
            <a:xfrm>
              <a:off x="4636440" y="510228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1" name="AutoShape 13"/>
            <p:cNvCxnSpPr/>
            <p:nvPr/>
          </p:nvCxnSpPr>
          <p:spPr>
            <a:xfrm>
              <a:off x="4614480" y="5216040"/>
              <a:ext cx="46584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grpSp>
        <p:nvGrpSpPr>
          <p:cNvPr id="212" name="Group 5"/>
          <p:cNvGrpSpPr/>
          <p:nvPr/>
        </p:nvGrpSpPr>
        <p:grpSpPr>
          <a:xfrm>
            <a:off x="6421320" y="5267160"/>
            <a:ext cx="611280" cy="860760"/>
            <a:chOff x="6421320" y="5267160"/>
            <a:chExt cx="611280" cy="860760"/>
          </a:xfrm>
        </p:grpSpPr>
        <p:sp>
          <p:nvSpPr>
            <p:cNvPr id="213" name="Rectangle 6"/>
            <p:cNvSpPr/>
            <p:nvPr/>
          </p:nvSpPr>
          <p:spPr>
            <a:xfrm>
              <a:off x="6421320" y="5267160"/>
              <a:ext cx="61128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7"/>
            <p:cNvCxnSpPr/>
            <p:nvPr/>
          </p:nvCxnSpPr>
          <p:spPr>
            <a:xfrm>
              <a:off x="6495120" y="536868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5" name="AutoShape 8"/>
            <p:cNvCxnSpPr/>
            <p:nvPr/>
          </p:nvCxnSpPr>
          <p:spPr>
            <a:xfrm>
              <a:off x="6495120" y="548244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6" name="AutoShape 9"/>
            <p:cNvCxnSpPr/>
            <p:nvPr/>
          </p:nvCxnSpPr>
          <p:spPr>
            <a:xfrm>
              <a:off x="6495120" y="559620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7" name="AutoShape 10"/>
            <p:cNvCxnSpPr/>
            <p:nvPr/>
          </p:nvCxnSpPr>
          <p:spPr>
            <a:xfrm>
              <a:off x="6504840" y="570996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8" name="AutoShape 11"/>
            <p:cNvCxnSpPr/>
            <p:nvPr/>
          </p:nvCxnSpPr>
          <p:spPr>
            <a:xfrm>
              <a:off x="6507360" y="582372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19" name="AutoShape 12"/>
            <p:cNvCxnSpPr/>
            <p:nvPr/>
          </p:nvCxnSpPr>
          <p:spPr>
            <a:xfrm>
              <a:off x="6504840" y="593748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  <p:cxnSp>
          <p:nvCxnSpPr>
            <p:cNvPr id="220" name="AutoShape 13"/>
            <p:cNvCxnSpPr/>
            <p:nvPr/>
          </p:nvCxnSpPr>
          <p:spPr>
            <a:xfrm>
              <a:off x="6483240" y="6051240"/>
              <a:ext cx="467280" cy="1080"/>
            </a:xfrm>
            <a:prstGeom prst="straightConnector1">
              <a:avLst/>
            </a:prstGeom>
            <a:ln w="15840">
              <a:solidFill>
                <a:srgbClr val="7f7f7f"/>
              </a:solidFill>
              <a:miter/>
            </a:ln>
          </p:spPr>
        </p:cxnSp>
      </p:grpSp>
      <p:sp>
        <p:nvSpPr>
          <p:cNvPr id="221" name="Abgerundetes Rechteck 5"/>
          <p:cNvSpPr/>
          <p:nvPr/>
        </p:nvSpPr>
        <p:spPr>
          <a:xfrm>
            <a:off x="6973920" y="3484440"/>
            <a:ext cx="1011240" cy="2318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rade Verbindung 62"/>
          <p:cNvSpPr/>
          <p:nvPr/>
        </p:nvSpPr>
        <p:spPr>
          <a:xfrm flipH="1" flipV="1">
            <a:off x="5014800" y="4874760"/>
            <a:ext cx="1712880" cy="39204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Gerade Verbindung 65"/>
          <p:cNvSpPr/>
          <p:nvPr/>
        </p:nvSpPr>
        <p:spPr>
          <a:xfrm flipH="1">
            <a:off x="6972120" y="5051520"/>
            <a:ext cx="1476360" cy="88560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Gerade Verbindung 67"/>
          <p:cNvSpPr/>
          <p:nvPr/>
        </p:nvSpPr>
        <p:spPr>
          <a:xfrm flipH="1">
            <a:off x="5886000" y="1854360"/>
            <a:ext cx="2333880" cy="3780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erade Verbindung 69"/>
          <p:cNvSpPr/>
          <p:nvPr/>
        </p:nvSpPr>
        <p:spPr>
          <a:xfrm flipV="1">
            <a:off x="7669080" y="2498760"/>
            <a:ext cx="731880" cy="98568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bgerundetes Rechteck 72"/>
          <p:cNvSpPr/>
          <p:nvPr/>
        </p:nvSpPr>
        <p:spPr>
          <a:xfrm>
            <a:off x="5065560" y="3603600"/>
            <a:ext cx="938520" cy="2318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bgerundetes Rechteck 78"/>
          <p:cNvSpPr/>
          <p:nvPr/>
        </p:nvSpPr>
        <p:spPr>
          <a:xfrm>
            <a:off x="4727520" y="4819680"/>
            <a:ext cx="28728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bgerundetes Rechteck 80"/>
          <p:cNvSpPr/>
          <p:nvPr/>
        </p:nvSpPr>
        <p:spPr>
          <a:xfrm>
            <a:off x="8220240" y="1784520"/>
            <a:ext cx="285480" cy="11088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bgerundetes Rechteck 82"/>
          <p:cNvSpPr/>
          <p:nvPr/>
        </p:nvSpPr>
        <p:spPr>
          <a:xfrm>
            <a:off x="6675480" y="5881680"/>
            <a:ext cx="28584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erade Verbindung 84"/>
          <p:cNvSpPr/>
          <p:nvPr/>
        </p:nvSpPr>
        <p:spPr>
          <a:xfrm>
            <a:off x="8400960" y="2498760"/>
            <a:ext cx="217440" cy="228276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bgerundetes Rechteck 88"/>
          <p:cNvSpPr/>
          <p:nvPr/>
        </p:nvSpPr>
        <p:spPr>
          <a:xfrm>
            <a:off x="8475840" y="4781520"/>
            <a:ext cx="285480" cy="11268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bgerundetes Rechteck 90"/>
          <p:cNvSpPr/>
          <p:nvPr/>
        </p:nvSpPr>
        <p:spPr>
          <a:xfrm>
            <a:off x="5427720" y="2084400"/>
            <a:ext cx="287280" cy="111240"/>
          </a:xfrm>
          <a:prstGeom prst="roundRect">
            <a:avLst>
              <a:gd name="adj" fmla="val 16667"/>
            </a:avLst>
          </a:prstGeom>
          <a:solidFill>
            <a:srgbClr val="7cca62">
              <a:alpha val="40000"/>
            </a:srgbClr>
          </a:solidFill>
          <a:ln w="190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erade Verbindung 91"/>
          <p:cNvSpPr/>
          <p:nvPr/>
        </p:nvSpPr>
        <p:spPr>
          <a:xfrm flipH="1" flipV="1">
            <a:off x="5595840" y="2195640"/>
            <a:ext cx="1131840" cy="307152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erade Verbindung 7"/>
          <p:cNvSpPr/>
          <p:nvPr/>
        </p:nvSpPr>
        <p:spPr>
          <a:xfrm flipV="1">
            <a:off x="4857840" y="3835440"/>
            <a:ext cx="677880" cy="596880"/>
          </a:xfrm>
          <a:prstGeom prst="line">
            <a:avLst/>
          </a:prstGeom>
          <a:ln w="3168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9280" y="1351080"/>
            <a:ext cx="369108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3763"/>
                </a:solidFill>
                <a:latin typeface="Arial"/>
              </a:rPr>
              <a:t>energy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►</a:t>
            </a:r>
            <a:r>
              <a:rPr b="0" lang="en-US" sz="2800" spc="-1" strike="noStrike">
                <a:solidFill>
                  <a:srgbClr val="083763"/>
                </a:solidFill>
                <a:latin typeface="Arial"/>
              </a:rPr>
              <a:t>connec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collecting &amp; sto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publish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85840">
              <a:spcBef>
                <a:spcPts val="40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Arial"/>
              </a:rPr>
              <a:t>access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5535720" y="304920"/>
            <a:ext cx="132372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495000"/>
            <a:ext cx="6078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How energypedia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24:47Z</dcterms:created>
  <dc:creator>Kutscherah;Wiedemann</dc:creator>
  <dc:description/>
  <dc:language>en-US</dc:language>
  <cp:lastModifiedBy>Katharina Wiedemann</cp:lastModifiedBy>
  <cp:lastPrinted>2012-12-03T14:00:15Z</cp:lastPrinted>
  <dcterms:modified xsi:type="dcterms:W3CDTF">2013-03-19T15:49:52Z</dcterms:modified>
  <cp:revision>587</cp:revision>
  <dc:subject>BSH Templates</dc:subject>
  <dc:title>energypedia - Introduction</dc:title>
</cp:coreProperties>
</file>